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  <p:custShowLst>
    <p:custShow name="Chapter" id="0">
      <p:sldLst>
        <p:sld r:id="rId10"/>
        <p:sld r:id="rId6"/>
        <p:sld r:id="rId11"/>
        <p:sld r:id="rId3"/>
      </p:sldLst>
    </p:custShow>
    <p:custShow name="ELI Sect 4" id="1">
      <p:sldLst>
        <p:sld r:id="rId4"/>
        <p:sld r:id="rId5"/>
        <p:sld r:id="rId6"/>
        <p:sld r:id="rId7"/>
        <p:sld r:id="rId8"/>
        <p:sld r:id="rId9"/>
        <p:sld r:id="rId10"/>
      </p:sldLst>
    </p:custShow>
    <p:custShow name="ELI STP" id="2">
      <p:sldLst>
        <p:sld r:id="rId9"/>
      </p:sldLst>
    </p:custShow>
    <p:custShow name="Transparencies" id="3">
      <p:sldLst>
        <p:sld r:id="rId11"/>
        <p:sld r:id="rId3"/>
      </p:sldLst>
    </p:custShow>
    <p:custShow name="Chapter menu" id="4">
      <p:sldLst>
        <p:sld r:id="rId4"/>
        <p:sld r:id="rId5"/>
        <p:sld r:id="rId6"/>
        <p:sld r:id="rId7"/>
        <p:sld r:id="rId8"/>
        <p:sld r:id="rId9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4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Metamorph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Metamorph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of metamorph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fference between regional and contact metamorph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foliated and nonfoliated metamorphic rocks, and give an example of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mation of Metamorphic Rock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tamorph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uring metamorphism, heat, pressure, and hot fluids cause some minerals to change into other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s may also change in size or shape, or they may separate into parallel bands that give the rock a layered appea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 fluids may circulate through the rock and change the mineral composition of the rock by dissolving some materials and by adding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4000"/>
            <a:ext cx="8210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mation of Metamorphic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of rock that forms because of metamorphism can indicate the conditions under which the original rock chan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sition of the rock being metamorphosed, the amount and direction of pressure, and the presence or absence of certain fluids cause different combinations of minerals to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types of metamorphism occur in Earth’s crust: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4000"/>
            <a:ext cx="77979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mation of Metamorphic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32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the type of rock that forms during meta-morphism indicates the conditions under which the metamorphism occur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1562040" y="3137040"/>
            <a:ext cx="6446880" cy="27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84000"/>
            <a:ext cx="77979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mation of Metamorphic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act Metamorp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act metamorph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gional metamorph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assification of Metamorphic Rock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liated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li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 pressure may cause the mineral crystals in the rock to realign or regrow to form parallel 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iation also occurs as minerals that have different compositions separate to produce a series of alternating dark and light 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liated metamorphic rocks include the common rocks slate, schist, and gnei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4000"/>
            <a:ext cx="77979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assification of Metamorphic Rock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32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nfoliated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nonfoliate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*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nonfoliated metamorphic rocks contain grains of only one mineral or contain very small amounts of other minerals. Thus,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ock does not form bands of different mineral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nonfoliated metamorphic rocks contain grains that are round or square. These grains are unlikely to change shape or position when exposed to directed press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nfoliated metamorphic rocks include the common rocks marble and quartzi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32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31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logic Map of Virgi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2166840" y="2152800"/>
            <a:ext cx="481032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11-04T23:18:33Z</dcterms:modified>
  <cp:revision>668</cp:revision>
  <dc:subject/>
  <dc:title>No Slide Title</dc:title>
</cp:coreProperties>
</file>